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appear.wav" ContentType="audio/x-wav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DE1C-1672-4933-8F83-9038896F5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54DA-3B96-4125-AFEB-BDF81451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F1D0-04EE-4A9D-83EB-0AAE23B27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1B72-5F12-4283-8904-AD4E6F271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150F-B086-4F12-B3CB-CDD2C4C8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B606-8C4B-434D-A478-EBC11711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B00A-F7DD-454C-8B78-98B61700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1E40-E0D4-451C-B6D8-80EDC02D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580E-2011-423B-9A3D-5D7FCE50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DAD9-FDCC-48D5-A475-90D4FAE2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D8FF-087A-461C-B185-63388AB1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3541-2113-4FBA-9EB1-B592031A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9FA7-8682-4B2A-BE1A-619E587D4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appear.wav"/><Relationship Id="rId4" Type="http://schemas.openxmlformats.org/officeDocument/2006/relationships/audio" Target="../media/appear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appear.wav"/><Relationship Id="rId4" Type="http://schemas.openxmlformats.org/officeDocument/2006/relationships/audio" Target="../media/appear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audio" Target="../media/appear.wav"/><Relationship Id="rId4" Type="http://schemas.openxmlformats.org/officeDocument/2006/relationships/audio" Target="../media/appear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audio" Target="../media/appear.wav"/><Relationship Id="rId4" Type="http://schemas.openxmlformats.org/officeDocument/2006/relationships/audio" Target="../media/appear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286000" y="1523880"/>
            <a:ext cx="6858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Mi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09480" y="167652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hombr</a:t>
            </a:r>
            <a:r>
              <a:rPr b="0" lang="en-GB" sz="15000" spc="-1" strike="noStrike">
                <a:solidFill>
                  <a:srgbClr val="3333cc"/>
                </a:solidFill>
                <a:latin typeface="Comic Sans MS"/>
              </a:rPr>
              <a:t>os</a:t>
            </a: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659640" y="4292640"/>
            <a:ext cx="1814400" cy="2125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1814760" cy="2125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H="1">
            <a:off x="1042560" y="333360"/>
            <a:ext cx="22338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763640" y="404640"/>
            <a:ext cx="165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9480" y="167652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pies</a:t>
            </a: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74367" t="16274" r="7606" b="68728"/>
          <a:stretch/>
        </p:blipFill>
        <p:spPr>
          <a:xfrm>
            <a:off x="395280" y="333360"/>
            <a:ext cx="24955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09480" y="167652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12448" t="37533" r="68327" b="47465"/>
          <a:stretch/>
        </p:blipFill>
        <p:spPr>
          <a:xfrm>
            <a:off x="0" y="-963720"/>
            <a:ext cx="4257720" cy="4508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177336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boca</a:t>
            </a: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74367" t="37533" r="7606" b="47465"/>
          <a:stretch/>
        </p:blipFill>
        <p:spPr>
          <a:xfrm>
            <a:off x="324000" y="333360"/>
            <a:ext cx="3711600" cy="4175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09480" y="167652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77336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pelo</a:t>
            </a: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54102" t="16274" r="27779" b="68728"/>
          <a:stretch/>
        </p:blipFill>
        <p:spPr>
          <a:xfrm>
            <a:off x="250920" y="189000"/>
            <a:ext cx="3330360" cy="3744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09480" y="167652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77336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nariz</a:t>
            </a: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718080" y="312408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137160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orej</a:t>
            </a:r>
            <a:r>
              <a:rPr b="0" lang="en-GB" sz="15000" spc="-1" strike="noStrike">
                <a:solidFill>
                  <a:srgbClr val="ff0000"/>
                </a:solidFill>
                <a:latin typeface="Comic Sans MS"/>
              </a:rPr>
              <a:t>as</a:t>
            </a: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12448" t="16420" r="69453" b="68653"/>
          <a:stretch/>
        </p:blipFill>
        <p:spPr>
          <a:xfrm>
            <a:off x="250920" y="0"/>
            <a:ext cx="28432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692360" y="141300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negr</a:t>
            </a:r>
            <a:r>
              <a:rPr b="0" lang="en-GB" sz="15000" spc="-1" strike="noStrike">
                <a:solidFill>
                  <a:srgbClr val="ff0000"/>
                </a:solidFill>
                <a:latin typeface="Comic Sans MS"/>
              </a:rPr>
              <a:t>as</a:t>
            </a: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403280" y="119700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blanc</a:t>
            </a:r>
            <a:r>
              <a:rPr b="0" lang="en-GB" sz="15000" spc="-1" strike="noStrike">
                <a:solidFill>
                  <a:srgbClr val="3333cc"/>
                </a:solidFill>
                <a:latin typeface="Comic Sans MS"/>
              </a:rPr>
              <a:t>os</a:t>
            </a: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16000" y="141300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blanc</a:t>
            </a:r>
            <a:r>
              <a:rPr b="0" lang="en-GB" sz="15000" spc="-1" strike="noStrike">
                <a:solidFill>
                  <a:srgbClr val="ff0000"/>
                </a:solidFill>
                <a:latin typeface="Comic Sans MS"/>
              </a:rPr>
              <a:t>as</a:t>
            </a: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26920" y="134136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morad</a:t>
            </a:r>
            <a:r>
              <a:rPr b="0" lang="en-GB" sz="15000" spc="-1" strike="noStrike">
                <a:solidFill>
                  <a:srgbClr val="3333cc"/>
                </a:solidFill>
                <a:latin typeface="Comic Sans MS"/>
              </a:rPr>
              <a:t>os</a:t>
            </a: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28600" y="152388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pintura</a:t>
            </a: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00000" y="134136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morad</a:t>
            </a:r>
            <a:r>
              <a:rPr b="0" lang="en-GB" sz="15000" spc="-1" strike="noStrike">
                <a:solidFill>
                  <a:srgbClr val="ff0000"/>
                </a:solidFill>
                <a:latin typeface="Comic Sans MS"/>
              </a:rPr>
              <a:t>as</a:t>
            </a: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116000" y="141300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rosad</a:t>
            </a:r>
            <a:r>
              <a:rPr b="0" lang="en-GB" sz="15000" spc="-1" strike="noStrike">
                <a:solidFill>
                  <a:srgbClr val="3333cc"/>
                </a:solidFill>
                <a:latin typeface="Comic Sans MS"/>
              </a:rPr>
              <a:t>os</a:t>
            </a: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43000" y="144792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rosad</a:t>
            </a:r>
            <a:r>
              <a:rPr b="0" lang="en-GB" sz="15000" spc="-1" strike="noStrike">
                <a:solidFill>
                  <a:srgbClr val="ff0000"/>
                </a:solidFill>
                <a:latin typeface="Comic Sans MS"/>
              </a:rPr>
              <a:t>as</a:t>
            </a: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55640" y="148428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amarill</a:t>
            </a:r>
            <a:r>
              <a:rPr b="0" lang="en-GB" sz="15000" spc="-1" strike="noStrike">
                <a:solidFill>
                  <a:srgbClr val="ff0000"/>
                </a:solidFill>
                <a:latin typeface="Comic Sans MS"/>
              </a:rPr>
              <a:t>as</a:t>
            </a: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11280" y="141300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amarill</a:t>
            </a:r>
            <a:r>
              <a:rPr b="0" lang="en-GB" sz="15000" spc="-1" strike="noStrike">
                <a:solidFill>
                  <a:srgbClr val="3333cc"/>
                </a:solidFill>
                <a:latin typeface="Comic Sans MS"/>
              </a:rPr>
              <a:t>os</a:t>
            </a: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32000" y="148428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verdes</a:t>
            </a: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457200"/>
            <a:ext cx="1600200" cy="160020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457200"/>
            <a:ext cx="1600200" cy="160020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76360" y="141300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azules</a:t>
            </a: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457200"/>
            <a:ext cx="1600200" cy="160020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87280" y="141300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naranjas</a:t>
            </a: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24000" y="148428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marrónes</a:t>
            </a: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457200"/>
            <a:ext cx="1600200" cy="1600200"/>
          </a:xfrm>
          <a:prstGeom prst="star5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52388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tiene</a:t>
            </a: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195640" y="162864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Comic Sans MS"/>
              </a:rPr>
              <a:t>????</a:t>
            </a:r>
            <a:r>
              <a:rPr b="0" lang="en-US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371600" y="167652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cabez</a:t>
            </a:r>
            <a:r>
              <a:rPr b="0" lang="en-GB" sz="15000" spc="-1" strike="noStrike">
                <a:solidFill>
                  <a:srgbClr val="ff0000"/>
                </a:solidFill>
                <a:latin typeface="Comic Sans MS"/>
              </a:rPr>
              <a:t>as</a:t>
            </a: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2324160" cy="2565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77080" y="4581360"/>
            <a:ext cx="16970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371600" y="167652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piern</a:t>
            </a:r>
            <a:r>
              <a:rPr b="0" lang="en-GB" sz="15000" spc="-1" strike="noStrike">
                <a:solidFill>
                  <a:srgbClr val="ff0000"/>
                </a:solidFill>
                <a:latin typeface="Comic Sans MS"/>
              </a:rPr>
              <a:t>as</a:t>
            </a: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669000" y="4365720"/>
            <a:ext cx="701640" cy="1869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758000" y="4437000"/>
            <a:ext cx="62100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e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e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6360" y="112536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man</a:t>
            </a:r>
            <a:r>
              <a:rPr b="0" lang="en-GB" sz="15000" spc="-1" strike="noStrike">
                <a:solidFill>
                  <a:srgbClr val="ff0000"/>
                </a:solidFill>
                <a:latin typeface="Comic Sans MS"/>
              </a:rPr>
              <a:t>os</a:t>
            </a: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796000" y="4816440"/>
            <a:ext cx="2449440" cy="1511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419640" y="5121360"/>
            <a:ext cx="230472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e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e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371600" y="144792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braz</a:t>
            </a:r>
            <a:r>
              <a:rPr b="0" lang="en-GB" sz="15000" spc="-1" strike="noStrike">
                <a:solidFill>
                  <a:srgbClr val="3333cc"/>
                </a:solidFill>
                <a:latin typeface="Comic Sans MS"/>
              </a:rPr>
              <a:t>os</a:t>
            </a: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77080" y="4944960"/>
            <a:ext cx="1871640" cy="1552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724360" y="4941720"/>
            <a:ext cx="194472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e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e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819520" y="144792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0" spc="-1" strike="noStrike">
                <a:solidFill>
                  <a:srgbClr val="000000"/>
                </a:solidFill>
                <a:latin typeface="Comic Sans MS"/>
              </a:rPr>
              <a:t>oj</a:t>
            </a:r>
            <a:r>
              <a:rPr b="0" lang="en-GB" sz="15000" spc="-1" strike="noStrike">
                <a:solidFill>
                  <a:srgbClr val="3333cc"/>
                </a:solidFill>
                <a:latin typeface="Comic Sans MS"/>
              </a:rPr>
              <a:t>os</a:t>
            </a:r>
            <a:r>
              <a:rPr b="0" lang="en-GB" sz="20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3280" y="4653000"/>
            <a:ext cx="1079640" cy="5349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084720" y="5054760"/>
            <a:ext cx="2159280" cy="10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e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e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0:48:41Z</dcterms:created>
  <dc:creator>mwoolvin</dc:creator>
  <dc:description/>
  <dc:language>en-US</dc:language>
  <cp:lastModifiedBy>Katy Oliver</cp:lastModifiedBy>
  <dcterms:modified xsi:type="dcterms:W3CDTF">2012-02-01T14:54:44Z</dcterms:modified>
  <cp:revision>4</cp:revision>
  <dc:subject/>
  <dc:title>PowerPoint Presentation</dc:title>
</cp:coreProperties>
</file>